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FB6-BCAD-472B-943B-D8A59B4C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199-4CE3-4118-90EF-E57E85B9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44F-ED27-46E8-A0B0-135DF86F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5DE-51FF-4860-8063-C99D3BF3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46D4-C485-4366-9534-B1300A75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6860-D9E5-439D-883B-E8112BE9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15CF-A51C-4E4F-A73C-A75AB6CC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FF0B-CAD1-457A-8E2B-815DE563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59C8-4358-43A8-ABCB-13ACC49D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FA6D-B490-4C33-8E7E-037A48B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EF80-E5A3-4D71-BC6D-738F9AAA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646-F6A8-43BF-BDA7-65F18B88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5E32-2893-484F-BD47-72CA876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4A0-0982-4DE0-BD1B-BE54615C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F12D-50EE-4E87-A145-5750B696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9F2C-D9F4-4AA8-90D5-C35B7413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07F7-ED0B-46BD-A24B-D2AB001E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3EA-2C4D-4A36-891C-1E599863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4E1-086A-4426-8FA8-1A67494D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79E-BA50-4A07-9CAE-11CE52BB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AAD-F898-439E-90A4-7A1352E4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544-E24A-4186-9CBB-47A8E21A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551-6AF2-4F76-A8C2-D6A60202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F2E-8251-4B8E-9A06-07E90B2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79FA-4DE8-45B5-B2F6-7BA4C2819BE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4CE2-3323-4B51-8096-2E95DF8510B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hnSteinbeck_TheGrapesOfWrath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obos2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ThreeHobosChicago1929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1.2: Life During the Depression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1424160"/>
            <a:ext cx="6858000" cy="40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32120" y="0"/>
            <a:ext cx="5279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over’s Philosophy: the economy will work itself out; “do-nothing” appro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cared by churches and char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tinos and African Americans had it the wor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ity/Rural differe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sychological effects/life saver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828800"/>
            <a:ext cx="64008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rate up ____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crifices: personal and profess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dical care stopp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colle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families or marria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gma was life long for some; treasure hu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The Grapes of Wrath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John Steinbeck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JohnSteinbeck TheGrapesOfWrat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957320"/>
            <a:ext cx="317196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Going out to Cali, Cali, Cali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nemployment char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soup kitchen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up kitchens and bread lin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oovervilles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hantytowns/Hoovervill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b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employed, homeless moving from place to place looking for 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21286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3962520"/>
            <a:ext cx="266688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ust Bowl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1933-1936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ust Bowl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1933-1936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ea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ck of water, overproduction, and windy conditions added fuel to the fi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ed in a westward mig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126540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502920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285920"/>
            <a:ext cx="6858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858000" cy="42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9:21:46Z</dcterms:created>
  <dc:creator>School District U46</dc:creator>
  <dc:description/>
  <dc:language>en-US</dc:language>
  <cp:lastModifiedBy>School District U46</cp:lastModifiedBy>
  <dcterms:modified xsi:type="dcterms:W3CDTF">2010-12-10T13:17:16Z</dcterms:modified>
  <cp:revision>28</cp:revision>
  <dc:subject/>
  <dc:title>The Great Depression Begins</dc:title>
</cp:coreProperties>
</file>